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A8A5-711C-4D3F-B2AB-BF49D00DB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B080-1BB0-475E-94C0-31A0D81E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278F-E028-4846-9623-C2455D9A5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4360-E936-48F7-AA33-C56ABF57D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9246-09B2-4185-B2BE-7C4A226A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927D-7232-4046-8B17-E8ABC91B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AF3B-67B9-4115-9075-EBB377E8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5A3F-27AE-49DA-94BA-A8899A15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464F-B306-417F-95A8-2351B220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577C-29FB-40ED-A2B0-1BF0A772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D086-B84E-4334-A64B-7047DF42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2435-98D7-47CB-B3E3-3B888444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F82B-A50D-436B-A04C-7E461626B37D}" type="slidenum">
              <a:rPr b="0" lang="ar-L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989000"/>
            <a:ext cx="914400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ترك كلّ شيءٍ واتبعن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وأنا أكون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لكَ نصيبا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92360" y="1989000"/>
            <a:ext cx="594360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ترك كلّ شيءٍ تُعطَى كلَّ شيء واحمل الصليبَ تعال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92360" y="2060640"/>
            <a:ext cx="594360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تجد الراحةَ والهدو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لن يخيبَ ظنّكَ تعال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989000"/>
            <a:ext cx="914400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ترك كلّ شيءٍ واتبعن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وأنا أكون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لكَ نصيبا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16000" y="1989000"/>
            <a:ext cx="594360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حيثما أقمت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قيمُ أن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لن يغيبَ وجهِيَ تعال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2060640"/>
            <a:ext cx="594360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إنّي اختَرتُك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لي عونا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العلى يدعوك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تعال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989000"/>
            <a:ext cx="914400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ترك كلّ شيءٍ واتبعن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وأنا أكون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لكَ نصيبا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68360" y="2205000"/>
            <a:ext cx="536436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نظرتُ في عينيكَ وأحبَبتُك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عرفتُ ما في قلبكَ تعا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68360" y="2276640"/>
            <a:ext cx="536436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أرضُكَ العطشَى للحُبِ والسلام تصرُخُ إليك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تعا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989000"/>
            <a:ext cx="914400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ترك كلّ شيءٍ واتبعن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وأنا أكون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لكَ نصيبا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4T10:20:38Z</dcterms:created>
  <dc:creator>Charbel Azar</dc:creator>
  <dc:description/>
  <dc:language>en-US</dc:language>
  <cp:lastModifiedBy>ف</cp:lastModifiedBy>
  <dcterms:modified xsi:type="dcterms:W3CDTF">2007-03-13T18:27:16Z</dcterms:modified>
  <cp:revision>8</cp:revision>
  <dc:subject/>
  <dc:title>Slide 1</dc:title>
</cp:coreProperties>
</file>